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1964-1CEF-40F5-B019-DC90DEA1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AB27-9138-42E6-BEB8-5A20F316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668E-EEEF-4F3A-A22A-3DC3F0900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A8DE-1570-4856-8EC3-876572E5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D5FE-CFCC-4F0A-B4BD-F069066D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A93E-4A3C-4585-BEA5-840D2447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9C2A-2FE6-46EC-9C84-59564298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8AEC-A2D7-4799-80D6-17C2B370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20FE-2E8C-49DE-8F0F-846D8091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5B28-E87C-4258-A104-0D956288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6A2F-CD37-4563-9183-C2C33A9D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1389-1F21-48DF-A38E-8E60FA62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80F4-2156-4594-85D4-116CEAD4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E16D-314A-4934-8D17-D9D30217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CEA8-6B04-40D3-8C9B-3E12EA1B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03CE-765E-49C6-BC72-F49BEC90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1AB6-4AF1-4615-A75B-00C6FA23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C361-B26C-4181-A7BA-9EF34CFE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8DBC-E114-4D3B-AF26-283F9E6D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DD14-4E95-4F42-86BC-5FF040B2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53A4-AF1C-4D76-B052-8ED64966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3369-2108-4C5A-90A5-B3D64256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3FEF-EB21-41A9-99F5-86B5BF61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4188-2A50-4EEF-BFF0-384CA3E1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50FF-9CD7-4CF5-ACF1-14C89A0C07B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1799-38CE-4A01-B99E-E22D41BE00F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How%20to%20Start%20the%20Research.pdf" TargetMode="External"/><Relationship Id="rId2" Type="http://schemas.openxmlformats.org/officeDocument/2006/relationships/hyperlink" Target="file:///Instuction%20to%20Select%20a%20Researh%20Topic.pdf" TargetMode="External"/><Relationship Id="rId3" Type="http://schemas.openxmlformats.org/officeDocument/2006/relationships/hyperlink" Target="file:///Research%20Guide.pdf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Conducting Research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Nanda Ganesan, Ph.D.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Professor of Information System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alifornia State University, Los Angele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Initial Identification of Emerging Areas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Internet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Magazine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Will provide an indication about emerging area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Visit the nearest computer book store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or search http://www.amazon.com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Review of trade magazines and trade articl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Review industry websit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http://www.Microsoft.com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Trade publications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Review of academic publications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Abstraction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ad Abstract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oolge Search is a good starting poin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Google scholar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Key words are everything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Make copies of all the important documents with an abstract stored separately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hortlist the possible topics 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More Specific Literature Survey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cholarly journal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ccess associations in the field for more information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ibrary databas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esis topic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iterature survey articl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Basic reference listing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g: Agre’s summary of basic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cholarly Journal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dentify journals in the field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List of journal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Narrow down to target journal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Target journals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tore journal information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Journal of Technology Education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Associations in the Field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Distance Education Association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Obtain information about the journals published by the association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Identifying Journals in the Field: Library Searches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Library database search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ric search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Other search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ampl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xpanding on the journal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Obtain information on additional journal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ample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Loop back to Google search with the new information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ample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Expanding and Focusing the Literature Survey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It is that one article that can expand the literature base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Obtain additional names of journals and topics from the references of the most relevant articl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Many a times, it would be one group of authors who will be talking about a particular topic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Do more search based on the author’s nam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Current Work-in Progres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Keep information on current work in progress that may contain bits of pieces of different papers or chapter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xample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Keep copies of all the referenc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xample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Other Searche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esis topic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iterature survey articl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Basic reference listing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g: Agre’s summary of basic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earch Alternative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Objective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lecting a research topic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onducting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Writing th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Defending th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Final submission of the thesi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earch Engine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oogl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Basic and advanced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Other search engin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Google Search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eneral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dvanced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Advance search operators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oogle Scholar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Other Search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terate between Google search and the search of other material such as journal search etc.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Writing the Thesi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Writing the Thesi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Modularize the topic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Start writing under each of the modul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Good starting points are introduction, literature survey, description of the process divided possibly into multiple chapter, presentation of results, discussion, reference to future work and conclusion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Feel free to move from one module to another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At the early stages, the flow of information must be the prime objectiv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ffort to maintain continuity should not hinder the flow of thoughts while initially writing the thesi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Getting Started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tart writing the introduction and the literature survey in skeleton form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Have an outline of the thesi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It must be in modular form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General Modular Forma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Introduction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Literature survey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Hypotheses and/or experimental background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perimental or Procedural design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Module 1: Details of experiment and presentations of finding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Module 2: Details of experiment and presentation of findings etc.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Discussion of findings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Conclusion and reference to future work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List of Reference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Appendix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tarting to Write 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Modularize the chapters into sub-topic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tart writing under each module as the thoughts flow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Do not focus on continuity or grammar at this tim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nclude additional sections and/or remove current sections as appropriat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ome Writing Technique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eave writing when writing block occur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Before ending a writing session make short notes on the next session to star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ink about the topic the night before the day of writing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Mornings are the best time to writ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Refining the Thesi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stablish continuity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Do additional literature survey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Continue to improve continuity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Give the thesis to be read by a technical and a non-technical person and make changes accordingly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Leave a gap of time before the final reading and editing of the thesi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Perform final editing and submit the thesi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Before Starting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Write down all the ideas and obtain copies of all the relevant material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tore all the information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Carry a flash drive for the purpose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Important Consideration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lways be nice to the supervisor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esis research teaches you more than scientific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It extols the virtue of human relationship, patience etc.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A Sample Forma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search Paper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Examples of Local Paper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ome examples will be provided that follows the suggested outline, in genera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areer advise expert system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The End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Research Process in General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ad scholarly paper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Discuss ideas with colleague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Write an initial paper and revise the paper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mplement research idea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Becoming part of a larger research community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ferenc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For Starter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f one is new, do a Google search for articles on how to start th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ome examples: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1"/>
              </a:rPr>
              <a:t>How to start the re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2"/>
              </a:rPr>
              <a:t>Instruction to select a research topic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3"/>
              </a:rPr>
              <a:t>Research guide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Web guide to start searching for research topic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Research Topic Orientation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Pur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pplied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Must be differentiated from development of applications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Not that all research need not be pur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pplied research with new ideas are also widely accepted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Define the Area of Research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Define the areas of interes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Pure re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Supply Chain Management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Recent areas of hot analytical research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Applied re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nterprise resource management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Internet security etc.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Must read scholarly journals and technical publication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Combining with Areas of Strength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The actual selection must now be determined by the areas of strength of the candidate along with the area of interest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Database design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Network applications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Strength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Analytica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Applied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Following the in-house research pattern may not be the best choic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Eg: MySQL and php based application development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Venture into other areas as well 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The Star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ad, read and read more!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13:28:09Z</dcterms:created>
  <dc:creator>kumar</dc:creator>
  <dc:description/>
  <dc:language>en-US</dc:language>
  <cp:lastModifiedBy>Teacher WD Shuttle</cp:lastModifiedBy>
  <dcterms:modified xsi:type="dcterms:W3CDTF">2006-07-24T05:54:13Z</dcterms:modified>
  <cp:revision>33</cp:revision>
  <dc:subject/>
  <dc:title>Conducting Resear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